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D05-62E3-40D1-83CA-8E784CF2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CFF-79DC-44EB-ACFF-55B10732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E3C-183C-47FC-BA0E-B661CD76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A4C-63E4-4B92-8B8C-978D6F2D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76C-EEE3-455E-93CF-54BB6E46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8C6-A202-4B47-9038-78294E7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1B4-1050-4E06-8768-BE407159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739-DFC8-42D1-8AE8-9E9CC5D6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901-DB36-46FA-AFDA-EAD45D4D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174-6238-4BB2-8DD6-C073E7D5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BDE-A9AB-40D9-9F71-4B353790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522-4A2B-4AB5-805E-088055F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306E-BA58-44F0-8C27-5390FF287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…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se de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polarisations du plan focal du Radiotélescope de Nançay équipées par l’électronique BAO-Radio [1250-1500] MH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ests en Juillet 2010: UGC4358 &amp; 3C227/3C28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mps dédié: 60h 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semestre 2011 sur, Abell1205, Abell2240, Abell85. Opérationnel depuis avril 201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ansfert des données sous Irod @ CCIN2P3: </a:t>
            </a: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75To HP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nalyse en cours semi-automatique: calibration, nettoyage de bande, spectres ON-OFF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But: suppression RFI, mesure HI Abell85, sensibi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lyse temps-fr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4"/>
          <p:cNvSpPr/>
          <p:nvPr/>
        </p:nvSpPr>
        <p:spPr>
          <a:xfrm>
            <a:off x="4842720" y="234936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’acquisition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50MHz de largeur de b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 de ~30kHz (FFT au v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811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4519800" y="9810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: running over 105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1857960" y="191628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_i] = 0 and stdDev[r_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12"/>
          <p:cNvSpPr/>
          <p:nvPr/>
        </p:nvSpPr>
        <p:spPr>
          <a:xfrm>
            <a:off x="4532400" y="63817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ot with the median filtering coming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48276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250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62120" y="480960"/>
            <a:ext cx="5819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igma evolution in the protected freq. zone after 1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6312960" y="31417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 foll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40000" y="96840"/>
            <a:ext cx="6619680" cy="657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6200" y="306864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frequency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quets in 25600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90600" y="76320"/>
            <a:ext cx="6562800" cy="6705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07240" y="2276640"/>
            <a:ext cx="183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08T15:46:18Z</dcterms:modified>
  <cp:revision>12</cp:revision>
  <dc:subject/>
  <dc:title>Diapositive 1</dc:title>
</cp:coreProperties>
</file>